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0.wmf" ContentType="image/x-wmf"/>
  <Override PartName="/ppt/media/image42.jpeg" ContentType="image/jpeg"/>
  <Override PartName="/ppt/media/image58.jpeg" ContentType="image/jpeg"/>
  <Override PartName="/ppt/media/image56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9.jpeg" ContentType="image/jpeg"/>
  <Override PartName="/ppt/media/image50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27.jpeg" ContentType="image/jpeg"/>
  <Override PartName="/ppt/media/image10.jpeg" ContentType="image/jpeg"/>
  <Override PartName="/ppt/media/image35.jpeg" ContentType="image/jpeg"/>
  <Override PartName="/ppt/media/image1.jpeg" ContentType="image/jpeg"/>
  <Override PartName="/ppt/media/image49.jpeg" ContentType="image/jpeg"/>
  <Override PartName="/ppt/media/image67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18.jpeg" ContentType="image/jpeg"/>
  <Override PartName="/ppt/media/image15.png" ContentType="image/png"/>
  <Override PartName="/ppt/media/image3.png" ContentType="image/png"/>
  <Override PartName="/ppt/media/image17.jpeg" ContentType="image/jpeg"/>
  <Override PartName="/ppt/media/image61.jpeg" ContentType="image/jpeg"/>
  <Override PartName="/ppt/media/image4.jpeg" ContentType="image/jpeg"/>
  <Override PartName="/ppt/media/image60.jpeg" ContentType="image/jpeg"/>
  <Override PartName="/ppt/media/image30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21.jpeg" ContentType="image/jpeg"/>
  <Override PartName="/ppt/media/image22.png" ContentType="image/png"/>
  <Override PartName="/ppt/media/image24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3.png" ContentType="image/png"/>
  <Override PartName="/ppt/media/image31.jpeg" ContentType="image/jpeg"/>
  <Override PartName="/ppt/media/image32.jpeg" ContentType="image/jpeg"/>
  <Override PartName="/ppt/media/image33.jpeg" ContentType="image/jpeg"/>
  <Override PartName="/ppt/media/image64.jpeg" ContentType="image/jpeg"/>
  <Override PartName="/ppt/media/image39.png" ContentType="image/pn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CFD3-5318-4104-B932-A879E780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3291-2D49-4E63-A67E-71C8A389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9206-98C7-43CC-B589-B6E37DE4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64DA-7E55-4A36-872B-720138CA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58ADB-95BC-4333-9073-D253A32F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AE679-AA66-4617-B391-B51ED3AB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2D403-A2E2-4379-9822-452D9BD2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E1522-BE51-4C5C-921B-BD4333B8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E6FD1-AC10-46BA-88D0-C7890B46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15DD8-43FF-46BB-80C8-8A08BB0F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70ADE-79EF-4FCB-A524-9CF6B825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0D97-3E35-4112-ADC1-5A255153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3562A-0A10-4DAA-B6D3-CABE68D1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B1050-E09E-4D7F-AD8E-53CF634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62EED-EBD3-4DA0-B85D-983BF713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63637-AFAC-4062-9AE0-A124E7B0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914DB-EE35-4C15-8A3E-A41DC6D9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2E534-EF84-48D5-820C-8ADE3080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9000-24B4-412B-BD61-43CACB3C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91AC-AC33-4753-9A0B-77D7EA95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C745-03C7-4ABA-B57D-E79968F5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3B31F-CB01-4366-A9B7-6B093E16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0637-F5EB-41FF-90D3-EBE7ADAF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D4C1-8178-4083-9D92-6A7F997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872E-F1D8-44B4-98A3-82E3A4D873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4091-1917-4F46-9D2A-7D11A8DD4A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rum.chkalovsk.com/gallery/data/media/44/P1010038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dfoto.com.ua/images/show/1557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ladanov.nm.ru/Galery/Solovki/Monastyr_Big.jpg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http://images.google.ru/imgres?imgurl=http://www.goldenmuseum.com/0604001.jpg&amp;imgrefurl=http://www.goldenmuseum.com/0604Phillotaxis_rus.html&amp;h=274&amp;w=218&amp;sz=7&amp;hl=ru&amp;start=1&amp;tbnid=6mUW1NnI2fb_jM:&amp;tbnh=113&amp;tbnw=90&amp;prev=/images%3Fq%3D%25D0%25B2%25D0%25B8%25D0%25BD%25D1%2582%25D0%25BE%25D0%25B2%25D0%25B0%25D1%258F%2B%25D1%2581%25D0%25B8%25D0%25BC%25D0%25BC%25D0%25B5%25D1%2582%25D1%2580%25D0%25B8%25D1%258F%26svnum%3D10%26hl%3Dru%26lr%3D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7.jpeg"/><Relationship Id="rId4" Type="http://schemas.openxmlformats.org/officeDocument/2006/relationships/image" Target="../media/image3.png"/><Relationship Id="rId5" Type="http://schemas.openxmlformats.org/officeDocument/2006/relationships/image" Target="../media/image38.jpeg"/><Relationship Id="rId6" Type="http://schemas.openxmlformats.org/officeDocument/2006/relationships/hyperlink" Target="http://images.google.ru/imgres?imgurl=http://www.goldenmuseum.com/0604001.jpg&amp;imgrefurl=http://www.goldenmuseum.com/0604Phillotaxis_rus.html&amp;h=274&amp;w=218&amp;sz=7&amp;hl=ru&amp;start=1&amp;tbnid=6mUW1NnI2fb_jM:&amp;tbnh=113&amp;tbnw=90&amp;prev=/images%3Fq%3D%25D0%25B2%25D0%25B8%25D0%25BD%25D1%2582%25D0%25BE%25D0%25B2%25D0%25B0%25D1%258F%2B%25D1%2581%25D0%25B8%25D0%25BC%25D0%25BC%25D0%25B5%25D1%2582%25D1%2580%25D0%25B8%25D1%258F%26svnum%3D10%26hl%3Dru%26lr%3D" TargetMode="External"/><Relationship Id="rId7" Type="http://schemas.openxmlformats.org/officeDocument/2006/relationships/image" Target="../media/image36.jpe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hyperlink" Target="http://www.marquetry.ru/pic/borders.gif" TargetMode="External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Garamond"/>
              </a:rPr>
              <a:t>Тема проекта:</a:t>
            </a:r>
            <a:endParaRPr b="0" lang="en-US" sz="7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тематика в природ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0"/>
          <p:cNvSpPr/>
          <p:nvPr/>
        </p:nvSpPr>
        <p:spPr>
          <a:xfrm flipH="1">
            <a:off x="1991880" y="3500280"/>
            <a:ext cx="792360" cy="1224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476360" y="333360"/>
            <a:ext cx="74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относительно точ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356000" y="2781360"/>
            <a:ext cx="453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игура называется симметричной относительно точки, если для каждой точки фигуры симметричная ей точка также принадлежит этой фигу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15"/>
          <p:cNvSpPr/>
          <p:nvPr/>
        </p:nvSpPr>
        <p:spPr>
          <a:xfrm rot="1302600">
            <a:off x="394920" y="4508280"/>
            <a:ext cx="2016000" cy="1593720"/>
          </a:xfrm>
          <a:prstGeom prst="triangle">
            <a:avLst>
              <a:gd name="adj" fmla="val 66421"/>
            </a:avLst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 flipH="1">
            <a:off x="2050920" y="1844640"/>
            <a:ext cx="720720" cy="4608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179280" y="2565360"/>
            <a:ext cx="4464000" cy="309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9"/>
          <p:cNvSpPr/>
          <p:nvPr/>
        </p:nvSpPr>
        <p:spPr>
          <a:xfrm>
            <a:off x="2368440" y="4005360"/>
            <a:ext cx="144720" cy="144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3"/>
          <p:cNvSpPr/>
          <p:nvPr/>
        </p:nvSpPr>
        <p:spPr>
          <a:xfrm rot="12110400">
            <a:off x="2410560" y="2133000"/>
            <a:ext cx="2016360" cy="1593720"/>
          </a:xfrm>
          <a:prstGeom prst="triangle">
            <a:avLst>
              <a:gd name="adj" fmla="val 68435"/>
            </a:avLst>
          </a:pr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1619280" y="189000"/>
            <a:ext cx="72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Центральную симметрию можно  встретить повсю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10" descr="P10100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4653000"/>
            <a:ext cx="2556000" cy="190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15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91628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3-6-2"/>
          <p:cNvPicPr/>
          <p:nvPr/>
        </p:nvPicPr>
        <p:blipFill>
          <a:blip r:embed="rId5"/>
          <a:stretch/>
        </p:blipFill>
        <p:spPr>
          <a:xfrm>
            <a:off x="3492360" y="1700280"/>
            <a:ext cx="5435640" cy="2417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litye0n"/>
          <p:cNvPicPr/>
          <p:nvPr/>
        </p:nvPicPr>
        <p:blipFill>
          <a:blip r:embed="rId6"/>
          <a:stretch/>
        </p:blipFill>
        <p:spPr>
          <a:xfrm>
            <a:off x="324000" y="4197240"/>
            <a:ext cx="4824360" cy="2575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PtF668"/>
          <p:cNvPicPr/>
          <p:nvPr/>
        </p:nvPicPr>
        <p:blipFill>
          <a:blip r:embed="rId7"/>
          <a:stretch/>
        </p:blipFill>
        <p:spPr>
          <a:xfrm>
            <a:off x="0" y="0"/>
            <a:ext cx="145584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3635280" y="2708280"/>
            <a:ext cx="496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игура называется симметричной относительно прямой, если для каждой точки фигуры симметричная ей точка также принадлежит этой фигу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403280" y="404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относительно прям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7"/>
          <p:cNvGrpSpPr/>
          <p:nvPr/>
        </p:nvGrpSpPr>
        <p:grpSpPr>
          <a:xfrm>
            <a:off x="468360" y="1792440"/>
            <a:ext cx="2879640" cy="4476960"/>
            <a:chOff x="468360" y="1792440"/>
            <a:chExt cx="2879640" cy="4476960"/>
          </a:xfrm>
        </p:grpSpPr>
        <p:sp>
          <p:nvSpPr>
            <p:cNvPr id="175" name="Line 16"/>
            <p:cNvSpPr/>
            <p:nvPr/>
          </p:nvSpPr>
          <p:spPr>
            <a:xfrm>
              <a:off x="468360" y="3933720"/>
              <a:ext cx="2879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utoShape 13"/>
            <p:cNvSpPr/>
            <p:nvPr/>
          </p:nvSpPr>
          <p:spPr>
            <a:xfrm rot="9546000">
              <a:off x="1118880" y="4963320"/>
              <a:ext cx="1760400" cy="1025640"/>
            </a:xfrm>
            <a:prstGeom prst="flowChart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4"/>
            <p:cNvSpPr/>
            <p:nvPr/>
          </p:nvSpPr>
          <p:spPr>
            <a:xfrm flipV="1">
              <a:off x="1087560" y="2565360"/>
              <a:ext cx="1440" cy="29512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 flipV="1">
              <a:off x="2630520" y="3259080"/>
              <a:ext cx="1440" cy="14479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835200" y="3184560"/>
              <a:ext cx="33624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833400" y="4525920"/>
              <a:ext cx="336600" cy="1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27"/>
            <p:cNvSpPr/>
            <p:nvPr/>
          </p:nvSpPr>
          <p:spPr>
            <a:xfrm flipV="1" rot="12054000">
              <a:off x="1119960" y="2074320"/>
              <a:ext cx="1768680" cy="1000440"/>
            </a:xfrm>
            <a:prstGeom prst="flowChart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Group 30"/>
            <p:cNvGrpSpPr/>
            <p:nvPr/>
          </p:nvGrpSpPr>
          <p:grpSpPr>
            <a:xfrm>
              <a:off x="2463840" y="4375080"/>
              <a:ext cx="336240" cy="74160"/>
              <a:chOff x="2463840" y="4375080"/>
              <a:chExt cx="336240" cy="74160"/>
            </a:xfrm>
          </p:grpSpPr>
          <p:sp>
            <p:nvSpPr>
              <p:cNvPr id="183" name="Line 28"/>
              <p:cNvSpPr/>
              <p:nvPr/>
            </p:nvSpPr>
            <p:spPr>
              <a:xfrm>
                <a:off x="2463840" y="4375080"/>
                <a:ext cx="336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9"/>
              <p:cNvSpPr/>
              <p:nvPr/>
            </p:nvSpPr>
            <p:spPr>
              <a:xfrm>
                <a:off x="2463840" y="4449240"/>
                <a:ext cx="336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31"/>
            <p:cNvGrpSpPr/>
            <p:nvPr/>
          </p:nvGrpSpPr>
          <p:grpSpPr>
            <a:xfrm>
              <a:off x="2463840" y="3632040"/>
              <a:ext cx="336240" cy="74520"/>
              <a:chOff x="2463840" y="3632040"/>
              <a:chExt cx="336240" cy="74520"/>
            </a:xfrm>
          </p:grpSpPr>
          <p:sp>
            <p:nvSpPr>
              <p:cNvPr id="186" name="Line 32"/>
              <p:cNvSpPr/>
              <p:nvPr/>
            </p:nvSpPr>
            <p:spPr>
              <a:xfrm>
                <a:off x="2463840" y="3632040"/>
                <a:ext cx="336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33"/>
              <p:cNvSpPr/>
              <p:nvPr/>
            </p:nvSpPr>
            <p:spPr>
              <a:xfrm>
                <a:off x="2463840" y="3706560"/>
                <a:ext cx="336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Line 34"/>
            <p:cNvSpPr/>
            <p:nvPr/>
          </p:nvSpPr>
          <p:spPr>
            <a:xfrm>
              <a:off x="1341360" y="1844640"/>
              <a:ext cx="1800" cy="42721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5"/>
            <p:cNvSpPr/>
            <p:nvPr/>
          </p:nvSpPr>
          <p:spPr>
            <a:xfrm flipH="1">
              <a:off x="2987280" y="2421000"/>
              <a:ext cx="1800" cy="31510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9"/>
          <p:cNvSpPr/>
          <p:nvPr/>
        </p:nvSpPr>
        <p:spPr>
          <a:xfrm>
            <a:off x="1800360" y="26028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евая симметрия присутствует чуть ли не в каждом  архитектурном объек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0" descr="2"/>
          <p:cNvPicPr/>
          <p:nvPr/>
        </p:nvPicPr>
        <p:blipFill>
          <a:blip r:embed="rId1"/>
          <a:stretch/>
        </p:blipFill>
        <p:spPr>
          <a:xfrm>
            <a:off x="539640" y="1773360"/>
            <a:ext cx="3382920" cy="13111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932360" y="191628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рагмент чугунной решётки ворот Таврического дворца в Санкт-Петербур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2" descr="09220020"/>
          <p:cNvPicPr/>
          <p:nvPr/>
        </p:nvPicPr>
        <p:blipFill>
          <a:blip r:embed="rId2"/>
          <a:stretch/>
        </p:blipFill>
        <p:spPr>
          <a:xfrm>
            <a:off x="4643280" y="3357720"/>
            <a:ext cx="4175280" cy="2916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3"/>
          <p:cNvSpPr/>
          <p:nvPr/>
        </p:nvSpPr>
        <p:spPr>
          <a:xfrm>
            <a:off x="4716360" y="6381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.Ессентуки  Грязелечеб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4" descr=""/>
          <p:cNvPicPr/>
          <p:nvPr/>
        </p:nvPicPr>
        <p:blipFill>
          <a:blip r:embed="rId3"/>
          <a:stretch/>
        </p:blipFill>
        <p:spPr>
          <a:xfrm>
            <a:off x="324000" y="3368520"/>
            <a:ext cx="4248000" cy="29894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5"/>
          <p:cNvSpPr/>
          <p:nvPr/>
        </p:nvSpPr>
        <p:spPr>
          <a:xfrm>
            <a:off x="250920" y="638172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рмания Бонн  Универси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a_bird"/>
          <p:cNvPicPr/>
          <p:nvPr/>
        </p:nvPicPr>
        <p:blipFill>
          <a:blip r:embed="rId1"/>
          <a:stretch/>
        </p:blipFill>
        <p:spPr>
          <a:xfrm>
            <a:off x="6372360" y="1628640"/>
            <a:ext cx="2527200" cy="3311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20060621142819"/>
          <p:cNvPicPr/>
          <p:nvPr/>
        </p:nvPicPr>
        <p:blipFill>
          <a:blip r:embed="rId2"/>
          <a:stretch/>
        </p:blipFill>
        <p:spPr>
          <a:xfrm>
            <a:off x="250920" y="371628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8f4b06f07b1d445ab2a59a90094d8cf8"/>
          <p:cNvPicPr/>
          <p:nvPr/>
        </p:nvPicPr>
        <p:blipFill>
          <a:blip r:embed="rId3"/>
          <a:stretch/>
        </p:blipFill>
        <p:spPr>
          <a:xfrm>
            <a:off x="3564000" y="2276640"/>
            <a:ext cx="2638440" cy="3693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2590920" y="260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севая симметрия в живой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р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10" descr="swan"/>
          <p:cNvPicPr/>
          <p:nvPr/>
        </p:nvPicPr>
        <p:blipFill>
          <a:blip r:embed="rId4"/>
          <a:stretch/>
        </p:blipFill>
        <p:spPr>
          <a:xfrm>
            <a:off x="0" y="0"/>
            <a:ext cx="2378160" cy="2851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4211640" y="2565360"/>
            <a:ext cx="47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сли преобразование симметрии относительно плоскости переводит фигуру в себя, то фигура называется симметричной относительно плоскости, а данная плоскость – плоскостью симметрии этой фиг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55640" y="333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относительно плоск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Group 29"/>
          <p:cNvGrpSpPr/>
          <p:nvPr/>
        </p:nvGrpSpPr>
        <p:grpSpPr>
          <a:xfrm>
            <a:off x="1116000" y="4873680"/>
            <a:ext cx="1439640" cy="1291680"/>
            <a:chOff x="1116000" y="4873680"/>
            <a:chExt cx="1439640" cy="1291680"/>
          </a:xfrm>
        </p:grpSpPr>
        <p:sp>
          <p:nvSpPr>
            <p:cNvPr id="205" name="AutoShape 30"/>
            <p:cNvSpPr/>
            <p:nvPr/>
          </p:nvSpPr>
          <p:spPr>
            <a:xfrm flipH="1" flipV="1" rot="10800000">
              <a:off x="1116000" y="4873680"/>
              <a:ext cx="1437840" cy="129168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1116000" y="5842800"/>
              <a:ext cx="361080" cy="3222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32"/>
            <p:cNvSpPr/>
            <p:nvPr/>
          </p:nvSpPr>
          <p:spPr>
            <a:xfrm flipH="1">
              <a:off x="1477080" y="5843160"/>
              <a:ext cx="1078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>
              <a:off x="1477080" y="4873680"/>
              <a:ext cx="0" cy="9694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Line 15"/>
          <p:cNvSpPr/>
          <p:nvPr/>
        </p:nvSpPr>
        <p:spPr>
          <a:xfrm>
            <a:off x="2556000" y="3213000"/>
            <a:ext cx="0" cy="1656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2195640" y="3500280"/>
            <a:ext cx="0" cy="1729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7"/>
          <p:cNvSpPr/>
          <p:nvPr/>
        </p:nvSpPr>
        <p:spPr>
          <a:xfrm>
            <a:off x="1116000" y="3500280"/>
            <a:ext cx="0" cy="1729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 flipH="1">
            <a:off x="1464840" y="3141720"/>
            <a:ext cx="11160" cy="17319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23"/>
          <p:cNvGrpSpPr/>
          <p:nvPr/>
        </p:nvGrpSpPr>
        <p:grpSpPr>
          <a:xfrm>
            <a:off x="1116000" y="2204280"/>
            <a:ext cx="1439640" cy="1292760"/>
            <a:chOff x="1116000" y="2204280"/>
            <a:chExt cx="1439640" cy="1292760"/>
          </a:xfrm>
        </p:grpSpPr>
        <p:sp>
          <p:nvSpPr>
            <p:cNvPr id="214" name="AutoShape 13"/>
            <p:cNvSpPr/>
            <p:nvPr/>
          </p:nvSpPr>
          <p:spPr>
            <a:xfrm flipH="1" flipV="1" rot="10800000">
              <a:off x="1116000" y="2203920"/>
              <a:ext cx="1437840" cy="129204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 flipV="1">
              <a:off x="1116000" y="3174480"/>
              <a:ext cx="361080" cy="32256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 flipH="1">
              <a:off x="1477080" y="3174480"/>
              <a:ext cx="1078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22"/>
            <p:cNvSpPr/>
            <p:nvPr/>
          </p:nvSpPr>
          <p:spPr>
            <a:xfrm>
              <a:off x="1477080" y="2205000"/>
              <a:ext cx="0" cy="9694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Rectangle 34"/>
          <p:cNvSpPr/>
          <p:nvPr/>
        </p:nvSpPr>
        <p:spPr>
          <a:xfrm>
            <a:off x="3203640" y="3715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AutoShape 35"/>
          <p:cNvGrpSpPr/>
          <p:nvPr/>
        </p:nvGrpSpPr>
        <p:grpSpPr>
          <a:xfrm>
            <a:off x="-30240" y="3846600"/>
            <a:ext cx="3949920" cy="530280"/>
            <a:chOff x="-30240" y="3846600"/>
            <a:chExt cx="3949920" cy="530280"/>
          </a:xfrm>
        </p:grpSpPr>
        <p:pic>
          <p:nvPicPr>
            <p:cNvPr id="220" name="AutoShape 35" descr=""/>
            <p:cNvPicPr/>
            <p:nvPr/>
          </p:nvPicPr>
          <p:blipFill>
            <a:blip r:embed="rId3"/>
            <a:stretch/>
          </p:blipFill>
          <p:spPr>
            <a:xfrm>
              <a:off x="-30240" y="3846600"/>
              <a:ext cx="394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28640" y="3956040"/>
              <a:ext cx="24303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Часто  такую симметрию называют зеркальной. А зеркало не просто копирует объект, но и меняет местами передние и задние части объекта по отношению к зерка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2" descr="EmiratesTowers"/>
          <p:cNvPicPr/>
          <p:nvPr/>
        </p:nvPicPr>
        <p:blipFill>
          <a:blip r:embed="rId1"/>
          <a:stretch/>
        </p:blipFill>
        <p:spPr>
          <a:xfrm>
            <a:off x="5580000" y="1628640"/>
            <a:ext cx="3187800" cy="4716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3"/>
          <p:cNvSpPr/>
          <p:nvPr/>
        </p:nvSpPr>
        <p:spPr>
          <a:xfrm>
            <a:off x="5364000" y="6453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убаи Башни Эмир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36" descr="Monastyr_Bi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041720"/>
            <a:ext cx="3529080" cy="2638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7"/>
          <p:cNvSpPr/>
          <p:nvPr/>
        </p:nvSpPr>
        <p:spPr>
          <a:xfrm>
            <a:off x="61128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ловецкий монасты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8" descr=""/>
          <p:cNvPicPr/>
          <p:nvPr/>
        </p:nvPicPr>
        <p:blipFill>
          <a:blip r:embed="rId4"/>
          <a:stretch/>
        </p:blipFill>
        <p:spPr>
          <a:xfrm>
            <a:off x="611280" y="1557360"/>
            <a:ext cx="3529080" cy="2166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9"/>
          <p:cNvSpPr/>
          <p:nvPr/>
        </p:nvSpPr>
        <p:spPr>
          <a:xfrm>
            <a:off x="611280" y="3716280"/>
            <a:ext cx="3529080" cy="368280"/>
          </a:xfrm>
          <a:prstGeom prst="rect">
            <a:avLst/>
          </a:prstGeom>
          <a:solidFill>
            <a:srgbClr val="00808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рмания  Гам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8"/>
          <p:cNvSpPr/>
          <p:nvPr/>
        </p:nvSpPr>
        <p:spPr>
          <a:xfrm>
            <a:off x="1332000" y="476280"/>
            <a:ext cx="74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етрадиционные виды симмет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3348000" y="2060640"/>
            <a:ext cx="5472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интовая симме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Симметрия повор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ереносная симме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6" descr=""/>
          <p:cNvPicPr/>
          <p:nvPr/>
        </p:nvPicPr>
        <p:blipFill>
          <a:blip r:embed="rId1"/>
          <a:stretch/>
        </p:blipFill>
        <p:spPr>
          <a:xfrm>
            <a:off x="179280" y="5056200"/>
            <a:ext cx="2664000" cy="542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7" descr=""/>
          <p:cNvPicPr/>
          <p:nvPr/>
        </p:nvPicPr>
        <p:blipFill>
          <a:blip r:embed="rId2"/>
          <a:stretch/>
        </p:blipFill>
        <p:spPr>
          <a:xfrm>
            <a:off x="1476360" y="3213000"/>
            <a:ext cx="1290600" cy="1440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8" descr="0604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700280"/>
            <a:ext cx="118404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8" descr="кленовый лист"/>
          <p:cNvPicPr/>
          <p:nvPr/>
        </p:nvPicPr>
        <p:blipFill>
          <a:blip r:embed="rId1"/>
          <a:stretch/>
        </p:blipFill>
        <p:spPr>
          <a:xfrm flipH="1" rot="2137200">
            <a:off x="0" y="1557360"/>
            <a:ext cx="1727280" cy="180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" descr="кленовый лист"/>
          <p:cNvPicPr/>
          <p:nvPr/>
        </p:nvPicPr>
        <p:blipFill>
          <a:blip r:embed="rId2"/>
          <a:stretch/>
        </p:blipFill>
        <p:spPr>
          <a:xfrm flipH="1" rot="21037200">
            <a:off x="1691640" y="907920"/>
            <a:ext cx="1727280" cy="14814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2572920" y="33336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интовая симмет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5" descr="DSC02634"/>
          <p:cNvPicPr/>
          <p:nvPr/>
        </p:nvPicPr>
        <p:blipFill>
          <a:blip r:embed="rId3"/>
          <a:stretch/>
        </p:blipFill>
        <p:spPr>
          <a:xfrm>
            <a:off x="0" y="4376880"/>
            <a:ext cx="3635280" cy="2481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кленовый лист"/>
          <p:cNvPicPr/>
          <p:nvPr/>
        </p:nvPicPr>
        <p:blipFill>
          <a:blip r:embed="rId4"/>
          <a:stretch/>
        </p:blipFill>
        <p:spPr>
          <a:xfrm flipH="1" rot="1041600">
            <a:off x="0" y="259920"/>
            <a:ext cx="1944720" cy="16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5"/>
          <a:stretch/>
        </p:blipFill>
        <p:spPr>
          <a:xfrm>
            <a:off x="5724360" y="1577880"/>
            <a:ext cx="3419640" cy="255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" descr="060400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78640" y="4770360"/>
            <a:ext cx="1665360" cy="2087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3" descr=""/>
          <p:cNvPicPr/>
          <p:nvPr/>
        </p:nvPicPr>
        <p:blipFill>
          <a:blip r:embed="rId8"/>
          <a:stretch/>
        </p:blipFill>
        <p:spPr>
          <a:xfrm>
            <a:off x="3635280" y="1989000"/>
            <a:ext cx="2089080" cy="446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3" descr="frame1L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1187280" y="90792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носная симметрия или скользящее преобраз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7" descr="borde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2492280"/>
            <a:ext cx="3527280" cy="2605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2" descr="s335"/>
          <p:cNvPicPr/>
          <p:nvPr/>
        </p:nvPicPr>
        <p:blipFill>
          <a:blip r:embed="rId4"/>
          <a:stretch/>
        </p:blipFill>
        <p:spPr>
          <a:xfrm>
            <a:off x="900000" y="2205000"/>
            <a:ext cx="3527640" cy="1222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5" descr="624"/>
          <p:cNvPicPr/>
          <p:nvPr/>
        </p:nvPicPr>
        <p:blipFill>
          <a:blip r:embed="rId5"/>
          <a:stretch/>
        </p:blipFill>
        <p:spPr>
          <a:xfrm>
            <a:off x="684360" y="4005360"/>
            <a:ext cx="3958920" cy="188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Основополагающий вопрос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8840" y="2356920"/>
            <a:ext cx="75009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чем единство математики, искусства и красоты природ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2916360" y="40464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повор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8" descr="middle[1]"/>
          <p:cNvPicPr/>
          <p:nvPr/>
        </p:nvPicPr>
        <p:blipFill>
          <a:blip r:embed="rId1"/>
          <a:stretch/>
        </p:blipFill>
        <p:spPr>
          <a:xfrm>
            <a:off x="4575240" y="1557360"/>
            <a:ext cx="4464000" cy="2544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Seastar1"/>
          <p:cNvPicPr/>
          <p:nvPr/>
        </p:nvPicPr>
        <p:blipFill>
          <a:blip r:embed="rId2"/>
          <a:stretch/>
        </p:blipFill>
        <p:spPr>
          <a:xfrm>
            <a:off x="5870520" y="43624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OLN_001359"/>
          <p:cNvPicPr/>
          <p:nvPr/>
        </p:nvPicPr>
        <p:blipFill>
          <a:blip r:embed="rId3"/>
          <a:stretch/>
        </p:blipFill>
        <p:spPr>
          <a:xfrm>
            <a:off x="87480" y="2541600"/>
            <a:ext cx="2379600" cy="412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limon-medium"/>
          <p:cNvPicPr/>
          <p:nvPr/>
        </p:nvPicPr>
        <p:blipFill>
          <a:blip r:embed="rId4"/>
          <a:stretch/>
        </p:blipFill>
        <p:spPr>
          <a:xfrm>
            <a:off x="2660760" y="4365720"/>
            <a:ext cx="3024000" cy="2317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7" descr="20060808_flower"/>
          <p:cNvPicPr/>
          <p:nvPr/>
        </p:nvPicPr>
        <p:blipFill>
          <a:blip r:embed="rId5"/>
          <a:stretch/>
        </p:blipFill>
        <p:spPr>
          <a:xfrm>
            <a:off x="0" y="0"/>
            <a:ext cx="2556000" cy="192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5"/>
          <p:cNvSpPr/>
          <p:nvPr/>
        </p:nvSpPr>
        <p:spPr>
          <a:xfrm>
            <a:off x="1403280" y="333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войства симмет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3492360" y="2349360"/>
            <a:ext cx="53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имметрия многолика. Она обладает свойствами, которые одновременно и просты, и сложны, способны проявляться и единожды, и бесконечно много раз. Даже человек, мало знакомый с геометрией, легко выберет из предложенных ему фигур наиболее симметрич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8" descr="g2"/>
          <p:cNvPicPr/>
          <p:nvPr/>
        </p:nvPicPr>
        <p:blipFill>
          <a:blip r:embed="rId1"/>
          <a:stretch/>
        </p:blipFill>
        <p:spPr>
          <a:xfrm>
            <a:off x="179280" y="1628640"/>
            <a:ext cx="3097440" cy="244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"/>
          <p:cNvPicPr/>
          <p:nvPr/>
        </p:nvPicPr>
        <p:blipFill>
          <a:blip r:embed="rId2"/>
          <a:stretch/>
        </p:blipFill>
        <p:spPr>
          <a:xfrm>
            <a:off x="468360" y="4270320"/>
            <a:ext cx="2592360" cy="240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0"/>
          <p:cNvSpPr/>
          <p:nvPr/>
        </p:nvSpPr>
        <p:spPr>
          <a:xfrm>
            <a:off x="2195640" y="333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250920" y="2997360"/>
            <a:ext cx="1800000" cy="18730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ubTriangle"/>
          <p:cNvSpPr/>
          <p:nvPr/>
        </p:nvSpPr>
        <p:spPr>
          <a:xfrm rot="1554600">
            <a:off x="2842920" y="1773360"/>
            <a:ext cx="1944720" cy="161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4572000" y="5300640"/>
            <a:ext cx="4392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Равностороннй 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ождественное преобразовани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евая симметри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1,S2,S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вороты отн. О на 120</a:t>
            </a:r>
            <a:r>
              <a:rPr b="1" i="1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и 240</a:t>
            </a:r>
            <a:r>
              <a:rPr b="1" i="1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58" idx="3"/>
            <a:endCxn id="258" idx="0"/>
          </p:cNvCxnSpPr>
          <p:nvPr/>
        </p:nvCxnSpPr>
        <p:spPr>
          <a:xfrm flipV="1">
            <a:off x="1150560" y="2996640"/>
            <a:ext cx="1080" cy="187380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sp>
        <p:nvSpPr>
          <p:cNvPr id="262" name="AutoShape 18"/>
          <p:cNvSpPr/>
          <p:nvPr/>
        </p:nvSpPr>
        <p:spPr>
          <a:xfrm>
            <a:off x="2063880" y="4941720"/>
            <a:ext cx="2232000" cy="170028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AutoShape 32"/>
          <p:cNvCxnSpPr>
            <a:stCxn id="262" idx="0"/>
            <a:endCxn id="262" idx="3"/>
          </p:cNvCxnSpPr>
          <p:nvPr/>
        </p:nvCxnSpPr>
        <p:spPr>
          <a:xfrm>
            <a:off x="3179520" y="4941360"/>
            <a:ext cx="1080" cy="170100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264" name="AutoShape 33"/>
          <p:cNvCxnSpPr>
            <a:stCxn id="262" idx="1"/>
          </p:cNvCxnSpPr>
          <p:nvPr/>
        </p:nvCxnSpPr>
        <p:spPr>
          <a:xfrm>
            <a:off x="2622600" y="5792400"/>
            <a:ext cx="1689840" cy="87876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265" name="AutoShape 34"/>
          <p:cNvCxnSpPr>
            <a:stCxn id="262" idx="5"/>
          </p:cNvCxnSpPr>
          <p:nvPr/>
        </p:nvCxnSpPr>
        <p:spPr>
          <a:xfrm flipH="1">
            <a:off x="2050560" y="5792400"/>
            <a:ext cx="1688400" cy="87876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sp>
        <p:nvSpPr>
          <p:cNvPr id="266" name="Text Box 38"/>
          <p:cNvSpPr/>
          <p:nvPr/>
        </p:nvSpPr>
        <p:spPr>
          <a:xfrm>
            <a:off x="4464000" y="177336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Разносторонний тре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ождественное преобразовани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40"/>
          <p:cNvSpPr/>
          <p:nvPr/>
        </p:nvSpPr>
        <p:spPr>
          <a:xfrm>
            <a:off x="2268360" y="3500280"/>
            <a:ext cx="4751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Равнобедренный  тре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ождественное преобразовани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евая симметри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5"/>
          <p:cNvSpPr/>
          <p:nvPr/>
        </p:nvSpPr>
        <p:spPr>
          <a:xfrm>
            <a:off x="2340000" y="404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имметрия четырехуг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 rot="5400000">
            <a:off x="431640" y="1807920"/>
            <a:ext cx="1871640" cy="1656000"/>
          </a:xfrm>
          <a:prstGeom prst="flowChartManualInpu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019640" y="2565000"/>
            <a:ext cx="1829160" cy="2735640"/>
            <a:chOff x="7019640" y="2565000"/>
            <a:chExt cx="1829160" cy="2735640"/>
          </a:xfrm>
        </p:grpSpPr>
        <p:sp>
          <p:nvSpPr>
            <p:cNvPr id="271" name="AutoShape 7"/>
            <p:cNvSpPr/>
            <p:nvPr/>
          </p:nvSpPr>
          <p:spPr>
            <a:xfrm>
              <a:off x="7020000" y="2565360"/>
              <a:ext cx="1800000" cy="2735280"/>
            </a:xfrm>
            <a:prstGeom prst="diamond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8"/>
            <p:cNvCxnSpPr>
              <a:stCxn id="271" idx="2"/>
              <a:endCxn id="271" idx="0"/>
            </p:cNvCxnSpPr>
            <p:nvPr/>
          </p:nvCxnSpPr>
          <p:spPr>
            <a:xfrm flipV="1">
              <a:off x="7919640" y="2565000"/>
              <a:ext cx="1080" cy="27360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273" name="AutoShape 9"/>
            <p:cNvCxnSpPr/>
            <p:nvPr/>
          </p:nvCxnSpPr>
          <p:spPr>
            <a:xfrm flipH="1">
              <a:off x="7019640" y="3933360"/>
              <a:ext cx="182952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</p:grpSp>
      <p:grpSp>
        <p:nvGrpSpPr>
          <p:cNvPr id="274" name="Group 23"/>
          <p:cNvGrpSpPr/>
          <p:nvPr/>
        </p:nvGrpSpPr>
        <p:grpSpPr>
          <a:xfrm>
            <a:off x="611280" y="4797360"/>
            <a:ext cx="1729080" cy="1727640"/>
            <a:chOff x="611280" y="4797360"/>
            <a:chExt cx="1729080" cy="1727640"/>
          </a:xfrm>
        </p:grpSpPr>
        <p:sp>
          <p:nvSpPr>
            <p:cNvPr id="275" name="Rectangle 11"/>
            <p:cNvSpPr/>
            <p:nvPr/>
          </p:nvSpPr>
          <p:spPr>
            <a:xfrm>
              <a:off x="611280" y="4797360"/>
              <a:ext cx="1728720" cy="1727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6" name="AutoShape 12"/>
            <p:cNvCxnSpPr>
              <a:stCxn id="275" idx="0"/>
              <a:endCxn id="275" idx="2"/>
            </p:cNvCxnSpPr>
            <p:nvPr/>
          </p:nvCxnSpPr>
          <p:spPr>
            <a:xfrm>
              <a:off x="1476360" y="4797360"/>
              <a:ext cx="1080" cy="17280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277" name="AutoShape 13"/>
            <p:cNvCxnSpPr>
              <a:stCxn id="275" idx="1"/>
              <a:endCxn id="275" idx="3"/>
            </p:cNvCxnSpPr>
            <p:nvPr/>
          </p:nvCxnSpPr>
          <p:spPr>
            <a:xfrm>
              <a:off x="611280" y="5660640"/>
              <a:ext cx="172944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278" name="Line 16"/>
            <p:cNvSpPr/>
            <p:nvPr/>
          </p:nvSpPr>
          <p:spPr>
            <a:xfrm>
              <a:off x="611280" y="4797360"/>
              <a:ext cx="1728720" cy="1727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 flipV="1">
              <a:off x="611280" y="4797360"/>
              <a:ext cx="1728720" cy="1727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Text Box 26"/>
          <p:cNvSpPr/>
          <p:nvPr/>
        </p:nvSpPr>
        <p:spPr>
          <a:xfrm>
            <a:off x="2700360" y="2133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Четырёх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ождественное преобразовани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2268360" y="3573360"/>
            <a:ext cx="468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Ром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ождественное преобразовани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евая симметри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1,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вороты отн. О на 1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3132000" y="5116680"/>
            <a:ext cx="468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вад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ождественное преобразовани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евая симметри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1,S2,S3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вороты отн. О на 1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270</a:t>
            </a:r>
            <a:r>
              <a:rPr b="1" i="1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и 90</a:t>
            </a:r>
            <a:r>
              <a:rPr b="1" i="1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5"/>
          <p:cNvSpPr/>
          <p:nvPr/>
        </p:nvSpPr>
        <p:spPr>
          <a:xfrm>
            <a:off x="826920" y="1773360"/>
            <a:ext cx="2880000" cy="2879640"/>
          </a:xfrm>
          <a:prstGeom prst="rect">
            <a:avLst/>
          </a:prstGeom>
          <a:solidFill>
            <a:srgbClr val="ffffff">
              <a:alpha val="6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1116000" y="2133720"/>
            <a:ext cx="2160720" cy="2160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2556000" y="260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руг и ш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1547640" y="4869000"/>
            <a:ext cx="65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Круг и шар – самые совершенные из фигур. Эти фигуры обладают бесконечным множеством симметр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6012000" y="2060640"/>
            <a:ext cx="2305080" cy="2151000"/>
          </a:xfrm>
          <a:prstGeom prst="ellipse">
            <a:avLst/>
          </a:prstGeom>
          <a:gradFill rotWithShape="0">
            <a:gsLst>
              <a:gs pos="0">
                <a:srgbClr val="ff0000">
                  <a:alpha val="65098"/>
                </a:srgbClr>
              </a:gs>
              <a:gs pos="100000">
                <a:srgbClr val="ffffff">
                  <a:alpha val="8117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34" descr="006217"/>
          <p:cNvPicPr/>
          <p:nvPr/>
        </p:nvPicPr>
        <p:blipFill>
          <a:blip r:embed="rId2"/>
          <a:stretch/>
        </p:blipFill>
        <p:spPr>
          <a:xfrm>
            <a:off x="5651640" y="1792440"/>
            <a:ext cx="2801880" cy="2801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35"/>
          <p:cNvGrpSpPr/>
          <p:nvPr/>
        </p:nvGrpSpPr>
        <p:grpSpPr>
          <a:xfrm>
            <a:off x="7451640" y="2060640"/>
            <a:ext cx="1297080" cy="1295640"/>
            <a:chOff x="7451640" y="2060640"/>
            <a:chExt cx="1297080" cy="1295640"/>
          </a:xfrm>
        </p:grpSpPr>
        <p:sp>
          <p:nvSpPr>
            <p:cNvPr id="290" name="Rectangle 24"/>
            <p:cNvSpPr/>
            <p:nvPr/>
          </p:nvSpPr>
          <p:spPr>
            <a:xfrm>
              <a:off x="7451640" y="2060640"/>
              <a:ext cx="1296720" cy="1295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1" name="AutoShape 25"/>
            <p:cNvCxnSpPr>
              <a:stCxn id="290" idx="0"/>
              <a:endCxn id="290" idx="2"/>
            </p:cNvCxnSpPr>
            <p:nvPr/>
          </p:nvCxnSpPr>
          <p:spPr>
            <a:xfrm>
              <a:off x="8100360" y="2060640"/>
              <a:ext cx="1080" cy="12960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292" name="AutoShape 26"/>
            <p:cNvCxnSpPr>
              <a:stCxn id="290" idx="1"/>
              <a:endCxn id="290" idx="3"/>
            </p:cNvCxnSpPr>
            <p:nvPr/>
          </p:nvCxnSpPr>
          <p:spPr>
            <a:xfrm>
              <a:off x="7451640" y="2707920"/>
              <a:ext cx="129744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293" name="Line 27"/>
            <p:cNvSpPr/>
            <p:nvPr/>
          </p:nvSpPr>
          <p:spPr>
            <a:xfrm>
              <a:off x="7451640" y="2060640"/>
              <a:ext cx="1296720" cy="129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 flipV="1">
              <a:off x="7451640" y="2060640"/>
              <a:ext cx="1296720" cy="129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Text Box 5"/>
          <p:cNvSpPr/>
          <p:nvPr/>
        </p:nvSpPr>
        <p:spPr>
          <a:xfrm>
            <a:off x="1619280" y="549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пределение фигур по классам симмет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2340000" y="3645000"/>
            <a:ext cx="66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пределение по классам симметрий дает нам новый взгляд на фигуры. К одному классу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мы отнесем фигуры, которые совмещаются единственным способом, к другому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2) отнесем фигуры, имеющие два и более вида симметрии. К отдельному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3) классу отнесем фигуры, которые обладают бесконечным множеством симметрий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WordArt 11"/>
          <p:cNvSpPr txBox="1"/>
          <p:nvPr/>
        </p:nvSpPr>
        <p:spPr>
          <a:xfrm>
            <a:off x="250920" y="1916280"/>
            <a:ext cx="217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98" name="WordArt 12"/>
          <p:cNvSpPr txBox="1"/>
          <p:nvPr/>
        </p:nvSpPr>
        <p:spPr>
          <a:xfrm>
            <a:off x="3995640" y="1844640"/>
            <a:ext cx="21600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2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99" name="WordArt 13"/>
          <p:cNvSpPr txBox="1"/>
          <p:nvPr/>
        </p:nvSpPr>
        <p:spPr>
          <a:xfrm>
            <a:off x="250920" y="4363920"/>
            <a:ext cx="28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00" name="PubTriangle"/>
          <p:cNvSpPr/>
          <p:nvPr/>
        </p:nvSpPr>
        <p:spPr>
          <a:xfrm>
            <a:off x="468360" y="1916280"/>
            <a:ext cx="1150920" cy="12254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 rot="5400000">
            <a:off x="2086200" y="2024640"/>
            <a:ext cx="936720" cy="1008360"/>
          </a:xfrm>
          <a:prstGeom prst="flowChartManualInput">
            <a:avLst/>
          </a:pr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4427640" y="2133360"/>
            <a:ext cx="874440" cy="1225800"/>
            <a:chOff x="4427640" y="2133360"/>
            <a:chExt cx="874440" cy="1225800"/>
          </a:xfrm>
        </p:grpSpPr>
        <p:sp>
          <p:nvSpPr>
            <p:cNvPr id="303" name="AutoShape 16"/>
            <p:cNvSpPr/>
            <p:nvPr/>
          </p:nvSpPr>
          <p:spPr>
            <a:xfrm>
              <a:off x="4427640" y="2133720"/>
              <a:ext cx="874440" cy="122544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04" name="AutoShape 18"/>
            <p:cNvCxnSpPr>
              <a:stCxn id="303" idx="3"/>
              <a:endCxn id="303" idx="0"/>
            </p:cNvCxnSpPr>
            <p:nvPr/>
          </p:nvCxnSpPr>
          <p:spPr>
            <a:xfrm flipV="1">
              <a:off x="4865040" y="2133360"/>
              <a:ext cx="1080" cy="12261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</p:grpSp>
      <p:sp>
        <p:nvSpPr>
          <p:cNvPr id="305" name="AutoShape 19"/>
          <p:cNvSpPr/>
          <p:nvPr/>
        </p:nvSpPr>
        <p:spPr>
          <a:xfrm>
            <a:off x="5675400" y="2254320"/>
            <a:ext cx="1368360" cy="104292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6" name="AutoShape 20"/>
          <p:cNvCxnSpPr>
            <a:stCxn id="305" idx="0"/>
            <a:endCxn id="305" idx="3"/>
          </p:cNvCxnSpPr>
          <p:nvPr/>
        </p:nvCxnSpPr>
        <p:spPr>
          <a:xfrm>
            <a:off x="6359040" y="2253960"/>
            <a:ext cx="1080" cy="104364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307" name="AutoShape 21"/>
          <p:cNvCxnSpPr>
            <a:stCxn id="305" idx="1"/>
            <a:endCxn id="305" idx="4"/>
          </p:cNvCxnSpPr>
          <p:nvPr/>
        </p:nvCxnSpPr>
        <p:spPr>
          <a:xfrm>
            <a:off x="6017760" y="2776680"/>
            <a:ext cx="1026360" cy="52128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308" name="AutoShape 22"/>
          <p:cNvCxnSpPr>
            <a:stCxn id="305" idx="5"/>
            <a:endCxn id="305" idx="2"/>
          </p:cNvCxnSpPr>
          <p:nvPr/>
        </p:nvCxnSpPr>
        <p:spPr>
          <a:xfrm flipH="1">
            <a:off x="5674680" y="2776680"/>
            <a:ext cx="1027800" cy="52128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sp>
        <p:nvSpPr>
          <p:cNvPr id="309" name="Oval 37"/>
          <p:cNvSpPr/>
          <p:nvPr/>
        </p:nvSpPr>
        <p:spPr>
          <a:xfrm>
            <a:off x="755640" y="4221000"/>
            <a:ext cx="1008000" cy="1009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38" descr="006217"/>
          <p:cNvPicPr/>
          <p:nvPr/>
        </p:nvPicPr>
        <p:blipFill>
          <a:blip r:embed="rId7"/>
          <a:stretch/>
        </p:blipFill>
        <p:spPr>
          <a:xfrm>
            <a:off x="684360" y="537516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1"/>
          <p:cNvPicPr/>
          <p:nvPr/>
        </p:nvPicPr>
        <p:blipFill>
          <a:blip r:embed="rId1"/>
          <a:srcRect l="4374" t="7213" r="58086" b="51393"/>
          <a:stretch/>
        </p:blipFill>
        <p:spPr>
          <a:xfrm>
            <a:off x="3348000" y="4149720"/>
            <a:ext cx="3024360" cy="248436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312" name="Picture 6" descr="1"/>
          <p:cNvPicPr/>
          <p:nvPr/>
        </p:nvPicPr>
        <p:blipFill>
          <a:blip r:embed="rId2"/>
          <a:srcRect l="73161" t="7213" r="2019" b="76639"/>
          <a:stretch/>
        </p:blipFill>
        <p:spPr>
          <a:xfrm>
            <a:off x="250920" y="5445000"/>
            <a:ext cx="2448000" cy="11923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graphicFrame>
        <p:nvGraphicFramePr>
          <p:cNvPr id="313" name="Object 7"/>
          <p:cNvGraphicFramePr/>
          <p:nvPr/>
        </p:nvGraphicFramePr>
        <p:xfrm>
          <a:off x="6122880" y="1628640"/>
          <a:ext cx="2951280" cy="247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2880" y="1628640"/>
                    <a:ext cx="2951280" cy="2473560"/>
                  </a:xfrm>
                  <a:prstGeom prst="rect">
                    <a:avLst/>
                  </a:prstGeom>
                  <a:ln w="9360">
                    <a:solidFill>
                      <a:srgbClr val="0099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5" name="Object 8"/>
          <p:cNvGraphicFramePr/>
          <p:nvPr/>
        </p:nvGraphicFramePr>
        <p:xfrm>
          <a:off x="755640" y="3284640"/>
          <a:ext cx="144000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284640"/>
                    <a:ext cx="1440000" cy="817560"/>
                  </a:xfrm>
                  <a:prstGeom prst="rect">
                    <a:avLst/>
                  </a:prstGeom>
                  <a:ln w="9360">
                    <a:solidFill>
                      <a:srgbClr val="0099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7" name="Object 9"/>
          <p:cNvGraphicFramePr/>
          <p:nvPr/>
        </p:nvGraphicFramePr>
        <p:xfrm>
          <a:off x="250920" y="4437000"/>
          <a:ext cx="2448000" cy="59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437000"/>
                    <a:ext cx="2448000" cy="596880"/>
                  </a:xfrm>
                  <a:prstGeom prst="rect">
                    <a:avLst/>
                  </a:prstGeom>
                  <a:ln w="9360">
                    <a:solidFill>
                      <a:srgbClr val="0099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9" name="Object 10"/>
          <p:cNvGraphicFramePr/>
          <p:nvPr/>
        </p:nvGraphicFramePr>
        <p:xfrm>
          <a:off x="1042920" y="2276640"/>
          <a:ext cx="863640" cy="75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2276640"/>
                    <a:ext cx="863640" cy="750600"/>
                  </a:xfrm>
                  <a:prstGeom prst="rect">
                    <a:avLst/>
                  </a:prstGeom>
                  <a:ln w="9360">
                    <a:solidFill>
                      <a:srgbClr val="0099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1" name="Text Box 11"/>
          <p:cNvSpPr/>
          <p:nvPr/>
        </p:nvSpPr>
        <p:spPr>
          <a:xfrm>
            <a:off x="934920" y="33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онструируем симметрию с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6" descr="zakaz-biletov-berezka1"/>
          <p:cNvPicPr/>
          <p:nvPr/>
        </p:nvPicPr>
        <p:blipFill>
          <a:blip r:embed="rId1"/>
          <a:stretch/>
        </p:blipFill>
        <p:spPr>
          <a:xfrm>
            <a:off x="250920" y="1944720"/>
            <a:ext cx="3168720" cy="2171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" descr="ballet3"/>
          <p:cNvPicPr/>
          <p:nvPr/>
        </p:nvPicPr>
        <p:blipFill>
          <a:blip r:embed="rId2"/>
          <a:stretch/>
        </p:blipFill>
        <p:spPr>
          <a:xfrm>
            <a:off x="5867280" y="2087640"/>
            <a:ext cx="3025800" cy="2127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0" descr="DSC_1876"/>
          <p:cNvPicPr/>
          <p:nvPr/>
        </p:nvPicPr>
        <p:blipFill>
          <a:blip r:embed="rId3"/>
          <a:stretch/>
        </p:blipFill>
        <p:spPr>
          <a:xfrm>
            <a:off x="3780000" y="3213000"/>
            <a:ext cx="1904760" cy="3048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6" descr="3-11"/>
          <p:cNvPicPr/>
          <p:nvPr/>
        </p:nvPicPr>
        <p:blipFill>
          <a:blip r:embed="rId4"/>
          <a:stretch/>
        </p:blipFill>
        <p:spPr>
          <a:xfrm>
            <a:off x="5940360" y="4578480"/>
            <a:ext cx="3019320" cy="2068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8" descr="3-1"/>
          <p:cNvPicPr/>
          <p:nvPr/>
        </p:nvPicPr>
        <p:blipFill>
          <a:blip r:embed="rId5"/>
          <a:stretch/>
        </p:blipFill>
        <p:spPr>
          <a:xfrm>
            <a:off x="111240" y="4532400"/>
            <a:ext cx="3419280" cy="20714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9"/>
          <p:cNvSpPr/>
          <p:nvPr/>
        </p:nvSpPr>
        <p:spPr>
          <a:xfrm>
            <a:off x="1763640" y="333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тан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3059280" y="333360"/>
            <a:ext cx="60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и асиммет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3059280" y="1916280"/>
            <a:ext cx="5903640" cy="1557000"/>
          </a:xfrm>
          <a:prstGeom prst="rect">
            <a:avLst/>
          </a:prstGeom>
          <a:solidFill>
            <a:srgbClr val="000066">
              <a:alpha val="67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имметрия и асимметрия - это две формы проявления одной и той же закономерности - закономерности двойств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3059280" y="3789360"/>
            <a:ext cx="5903640" cy="1557000"/>
          </a:xfrm>
          <a:prstGeom prst="rect">
            <a:avLst/>
          </a:prstGeom>
          <a:solidFill>
            <a:srgbClr val="000066">
              <a:alpha val="67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имметрия воспринимается нами как покой, скованность, закономерность, тогда как асимметрия означает движение, свободу, случай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3024360" y="5661000"/>
            <a:ext cx="5976720" cy="825480"/>
          </a:xfrm>
          <a:prstGeom prst="rect">
            <a:avLst/>
          </a:prstGeom>
          <a:solidFill>
            <a:srgbClr val="000066">
              <a:alpha val="67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стинную красоту можно постичь только в единстве противополож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18" descr="HHS"/>
          <p:cNvPicPr/>
          <p:nvPr/>
        </p:nvPicPr>
        <p:blipFill>
          <a:blip r:embed="rId1"/>
          <a:stretch/>
        </p:blipFill>
        <p:spPr>
          <a:xfrm>
            <a:off x="0" y="2781360"/>
            <a:ext cx="2843280" cy="3429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9"/>
          <p:cNvSpPr/>
          <p:nvPr/>
        </p:nvSpPr>
        <p:spPr>
          <a:xfrm>
            <a:off x="0" y="6216480"/>
            <a:ext cx="2843280" cy="642600"/>
          </a:xfrm>
          <a:prstGeom prst="rect">
            <a:avLst/>
          </a:prstGeom>
          <a:solidFill>
            <a:srgbClr val="0066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осква  Храм Христа Спас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21528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1"/>
          <p:cNvSpPr/>
          <p:nvPr/>
        </p:nvSpPr>
        <p:spPr>
          <a:xfrm>
            <a:off x="0" y="2133720"/>
            <a:ext cx="2916360" cy="642600"/>
          </a:xfrm>
          <a:prstGeom prst="rect">
            <a:avLst/>
          </a:prstGeom>
          <a:solidFill>
            <a:srgbClr val="0066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олгария  София  Александроневская лав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208470_50"/>
          <p:cNvPicPr/>
          <p:nvPr/>
        </p:nvPicPr>
        <p:blipFill>
          <a:blip r:embed="rId1"/>
          <a:stretch/>
        </p:blipFill>
        <p:spPr>
          <a:xfrm>
            <a:off x="0" y="1581120"/>
            <a:ext cx="5508720" cy="52419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9"/>
          <p:cNvSpPr/>
          <p:nvPr/>
        </p:nvSpPr>
        <p:spPr>
          <a:xfrm>
            <a:off x="395280" y="189000"/>
            <a:ext cx="8569440" cy="947160"/>
          </a:xfrm>
          <a:prstGeom prst="rect">
            <a:avLst/>
          </a:prstGeom>
          <a:solidFill>
            <a:srgbClr val="0000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мером удивительного сочетания симметрии и асимметрии является Храм Василия Блаженн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5724360" y="1989000"/>
            <a:ext cx="34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композиция из 10 храмов, каждый из которых обладает центральной симметрией, в целом асимметрична. Симметричные архитектурные детали собора как бы кружатся в асимметричном беспорядочном танце вокруг центрального ш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1483920"/>
            <a:ext cx="6480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</a:rPr>
              <a:t>Возможен ли мир без симметрии?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7" name="Picture 21" descr="031"/>
          <p:cNvPicPr/>
          <p:nvPr/>
        </p:nvPicPr>
        <p:blipFill>
          <a:blip r:embed="rId1"/>
          <a:stretch/>
        </p:blipFill>
        <p:spPr>
          <a:xfrm>
            <a:off x="324000" y="2708280"/>
            <a:ext cx="2450880" cy="368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4" descr="кленовый лист"/>
          <p:cNvPicPr/>
          <p:nvPr/>
        </p:nvPicPr>
        <p:blipFill>
          <a:blip r:embed="rId2"/>
          <a:stretch/>
        </p:blipFill>
        <p:spPr>
          <a:xfrm>
            <a:off x="0" y="0"/>
            <a:ext cx="1763640" cy="151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5" descr="кленовый лист"/>
          <p:cNvPicPr/>
          <p:nvPr/>
        </p:nvPicPr>
        <p:blipFill>
          <a:blip r:embed="rId3"/>
          <a:stretch/>
        </p:blipFill>
        <p:spPr>
          <a:xfrm>
            <a:off x="7093080" y="0"/>
            <a:ext cx="1809720" cy="155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img_7711_16833"/>
          <p:cNvPicPr/>
          <p:nvPr/>
        </p:nvPicPr>
        <p:blipFill>
          <a:blip r:embed="rId4"/>
          <a:stretch/>
        </p:blipFill>
        <p:spPr>
          <a:xfrm>
            <a:off x="6084720" y="2781360"/>
            <a:ext cx="2708280" cy="3502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9" descr="Sinhar4s"/>
          <p:cNvPicPr/>
          <p:nvPr/>
        </p:nvPicPr>
        <p:blipFill>
          <a:blip r:embed="rId5"/>
          <a:stretch/>
        </p:blipFill>
        <p:spPr>
          <a:xfrm>
            <a:off x="3059280" y="4508640"/>
            <a:ext cx="2801880" cy="1885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0"/>
          <p:cNvSpPr/>
          <p:nvPr/>
        </p:nvSpPr>
        <p:spPr>
          <a:xfrm>
            <a:off x="5867280" y="62164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лайз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уала Лумпур башни-близнецы компании «Петронас»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179280" y="6381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иж, Эйфелева башн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285920" y="214200"/>
            <a:ext cx="6215040" cy="107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Проблемный вопрос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1403280" y="40464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рирода – наука – искус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900000" y="1557360"/>
            <a:ext cx="7704360" cy="2104920"/>
          </a:xfrm>
          <a:prstGeom prst="rect">
            <a:avLst/>
          </a:prstGeom>
          <a:solidFill>
            <a:srgbClr val="0066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Итак, сфера влияния симметрии поистине безгранична. Природа – наука – искусство, всюду мы видим противоборство, а часто и единство двух великих начал – симметрии и асимметрии, которые во многом и определяют гармонию природы, мудрость науки и красоту искус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4032360" cy="267012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179280" y="6491160"/>
            <a:ext cx="4032360" cy="337320"/>
          </a:xfrm>
          <a:prstGeom prst="rect">
            <a:avLst/>
          </a:prstGeom>
          <a:solidFill>
            <a:srgbClr val="0000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мок Белая цапля   Япо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21" descr=""/>
          <p:cNvPicPr/>
          <p:nvPr/>
        </p:nvPicPr>
        <p:blipFill>
          <a:blip r:embed="rId2"/>
          <a:stretch/>
        </p:blipFill>
        <p:spPr>
          <a:xfrm>
            <a:off x="4716360" y="3765600"/>
            <a:ext cx="4248360" cy="27590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2"/>
          <p:cNvSpPr/>
          <p:nvPr/>
        </p:nvSpPr>
        <p:spPr>
          <a:xfrm>
            <a:off x="4705200" y="6491160"/>
            <a:ext cx="4248360" cy="337320"/>
          </a:xfrm>
          <a:prstGeom prst="rect">
            <a:avLst/>
          </a:prstGeom>
          <a:solidFill>
            <a:srgbClr val="0000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нада Квебек Музей цивилиз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Garamond"/>
              </a:rPr>
              <a:t>Цель проекта: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71600" y="242856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ознакомится с понятием симметр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66"/>
                </a:solidFill>
                <a:latin typeface="Garamond"/>
              </a:rPr>
              <a:t>Задачи: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информации о симмет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основные по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виды симмет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 важность симметрии для н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2627280" y="549360"/>
            <a:ext cx="6300720" cy="28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"Симметрия является той идеей, посредством которой человек на протяжении веков пытался постичь и создать порядок, красоту и совершенство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Г. Вейль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762200" cy="2581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P2270436"/>
          <p:cNvPicPr/>
          <p:nvPr/>
        </p:nvPicPr>
        <p:blipFill>
          <a:blip r:embed="rId2"/>
          <a:stretch/>
        </p:blipFill>
        <p:spPr>
          <a:xfrm>
            <a:off x="539640" y="3608280"/>
            <a:ext cx="3602160" cy="2700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0"/>
          <p:cNvSpPr/>
          <p:nvPr/>
        </p:nvSpPr>
        <p:spPr>
          <a:xfrm>
            <a:off x="250920" y="6308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. Ессентуки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Источник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минеральной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6" descr=""/>
          <p:cNvPicPr/>
          <p:nvPr/>
        </p:nvPicPr>
        <p:blipFill>
          <a:blip r:embed="rId3"/>
          <a:stretch/>
        </p:blipFill>
        <p:spPr>
          <a:xfrm>
            <a:off x="5292720" y="3645000"/>
            <a:ext cx="3456000" cy="2681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7"/>
          <p:cNvSpPr/>
          <p:nvPr/>
        </p:nvSpPr>
        <p:spPr>
          <a:xfrm>
            <a:off x="5219640" y="6308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тикан    Площадь Святого Пет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0000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имметрия в природе – следствие необходимости сохранять устойчивость. Симметрия лежит в основе законов сохранения. Можно сказать, что симметрия – это проявление стремления материи к надёжности и проч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6" descr="040420"/>
          <p:cNvPicPr/>
          <p:nvPr/>
        </p:nvPicPr>
        <p:blipFill>
          <a:blip r:embed="rId1"/>
          <a:stretch/>
        </p:blipFill>
        <p:spPr>
          <a:xfrm>
            <a:off x="395280" y="2276640"/>
            <a:ext cx="3097080" cy="3528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7"/>
          <p:cNvSpPr/>
          <p:nvPr/>
        </p:nvSpPr>
        <p:spPr>
          <a:xfrm>
            <a:off x="250920" y="609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ссийский самолёт ТУ-15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0" descr="06a"/>
          <p:cNvPicPr/>
          <p:nvPr/>
        </p:nvPicPr>
        <p:blipFill>
          <a:blip r:embed="rId2"/>
          <a:stretch/>
        </p:blipFill>
        <p:spPr>
          <a:xfrm>
            <a:off x="3995640" y="2268360"/>
            <a:ext cx="4969080" cy="3519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1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моби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0"/>
          <p:cNvSpPr/>
          <p:nvPr/>
        </p:nvSpPr>
        <p:spPr>
          <a:xfrm>
            <a:off x="1476360" y="26028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Что же такое симметр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324000" y="1052640"/>
            <a:ext cx="4752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В древности слово «симметрия» употреблялось в значении «гармония», «красота».</a:t>
            </a:r>
            <a:r>
              <a:rPr b="1" i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4211640" y="436572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Будем называть симметрией фигуры, любое преобразование, переводящее фигуру в себя, т.е. обеспечивающее ее самосовмещ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1" descr="mahblub_1013002"/>
          <p:cNvPicPr/>
          <p:nvPr/>
        </p:nvPicPr>
        <p:blipFill>
          <a:blip r:embed="rId1"/>
          <a:stretch/>
        </p:blipFill>
        <p:spPr>
          <a:xfrm>
            <a:off x="5508720" y="1197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4" descr="img00000550"/>
          <p:cNvPicPr/>
          <p:nvPr/>
        </p:nvPicPr>
        <p:blipFill>
          <a:blip r:embed="rId2"/>
          <a:stretch/>
        </p:blipFill>
        <p:spPr>
          <a:xfrm>
            <a:off x="971640" y="2637000"/>
            <a:ext cx="2252520" cy="2447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5"/>
          <p:cNvSpPr/>
          <p:nvPr/>
        </p:nvSpPr>
        <p:spPr>
          <a:xfrm>
            <a:off x="324000" y="5299200"/>
            <a:ext cx="34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йденное в гробнице Тутанхомона нагрудное украшение со священными знаками должно было гарантировать фараону воскреш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AutoShape 22"/>
          <p:cNvGrpSpPr/>
          <p:nvPr/>
        </p:nvGrpSpPr>
        <p:grpSpPr>
          <a:xfrm>
            <a:off x="3981600" y="3193920"/>
            <a:ext cx="4601880" cy="1549440"/>
            <a:chOff x="3981600" y="3193920"/>
            <a:chExt cx="4601880" cy="1549440"/>
          </a:xfrm>
        </p:grpSpPr>
        <p:pic>
          <p:nvPicPr>
            <p:cNvPr id="127" name="AutoShape 22" descr=""/>
            <p:cNvPicPr/>
            <p:nvPr/>
          </p:nvPicPr>
          <p:blipFill>
            <a:blip r:embed="rId1"/>
            <a:stretch/>
          </p:blipFill>
          <p:spPr>
            <a:xfrm>
              <a:off x="3981600" y="3193920"/>
              <a:ext cx="460188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398840" y="3591000"/>
              <a:ext cx="41706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AutoShape 21"/>
          <p:cNvGrpSpPr/>
          <p:nvPr/>
        </p:nvGrpSpPr>
        <p:grpSpPr>
          <a:xfrm>
            <a:off x="384120" y="5400720"/>
            <a:ext cx="4602240" cy="1476360"/>
            <a:chOff x="384120" y="5400720"/>
            <a:chExt cx="4602240" cy="1476360"/>
          </a:xfrm>
        </p:grpSpPr>
        <p:pic>
          <p:nvPicPr>
            <p:cNvPr id="130" name="AutoShape 21" descr=""/>
            <p:cNvPicPr/>
            <p:nvPr/>
          </p:nvPicPr>
          <p:blipFill>
            <a:blip r:embed="rId2"/>
            <a:stretch/>
          </p:blipFill>
          <p:spPr>
            <a:xfrm>
              <a:off x="384120" y="5400720"/>
              <a:ext cx="46022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95280" y="5778360"/>
              <a:ext cx="41702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AutoShape 20"/>
          <p:cNvGrpSpPr/>
          <p:nvPr/>
        </p:nvGrpSpPr>
        <p:grpSpPr>
          <a:xfrm>
            <a:off x="311040" y="1682640"/>
            <a:ext cx="4595760" cy="1548000"/>
            <a:chOff x="311040" y="1682640"/>
            <a:chExt cx="4595760" cy="1548000"/>
          </a:xfrm>
        </p:grpSpPr>
        <p:pic>
          <p:nvPicPr>
            <p:cNvPr id="133" name="AutoShape 20" descr=""/>
            <p:cNvPicPr/>
            <p:nvPr/>
          </p:nvPicPr>
          <p:blipFill>
            <a:blip r:embed="rId3"/>
            <a:stretch/>
          </p:blipFill>
          <p:spPr>
            <a:xfrm>
              <a:off x="311040" y="1682640"/>
              <a:ext cx="459576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24000" y="2077920"/>
              <a:ext cx="41702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Text Box 4"/>
          <p:cNvSpPr/>
          <p:nvPr/>
        </p:nvSpPr>
        <p:spPr>
          <a:xfrm>
            <a:off x="1547640" y="333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иды симметрии в школьном курсе геометрии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140360" y="35002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имметрия относительно прям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0" y="2060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имметрия относительно точ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50920" y="5805360"/>
            <a:ext cx="4105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имметрия относительно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лос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37"/>
          <p:cNvGrpSpPr/>
          <p:nvPr/>
        </p:nvGrpSpPr>
        <p:grpSpPr>
          <a:xfrm>
            <a:off x="1042920" y="3068640"/>
            <a:ext cx="2089080" cy="2089080"/>
            <a:chOff x="1042920" y="3068640"/>
            <a:chExt cx="2089080" cy="2089080"/>
          </a:xfrm>
        </p:grpSpPr>
        <p:sp>
          <p:nvSpPr>
            <p:cNvPr id="140" name="Line 18"/>
            <p:cNvSpPr/>
            <p:nvPr/>
          </p:nvSpPr>
          <p:spPr>
            <a:xfrm flipV="1">
              <a:off x="1258920" y="3500280"/>
              <a:ext cx="1657440" cy="936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1547640" y="3068640"/>
              <a:ext cx="1224000" cy="20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1042920" y="4365720"/>
              <a:ext cx="216000" cy="215640"/>
            </a:xfrm>
            <a:prstGeom prst="ellipse">
              <a:avLst/>
            </a:prstGeom>
            <a:solidFill>
              <a:srgbClr val="ff0000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>
              <a:off x="2916360" y="3357720"/>
              <a:ext cx="215640" cy="215640"/>
            </a:xfrm>
            <a:prstGeom prst="ellipse">
              <a:avLst/>
            </a:prstGeom>
            <a:solidFill>
              <a:srgbClr val="ff0000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39"/>
          <p:cNvGrpSpPr/>
          <p:nvPr/>
        </p:nvGrpSpPr>
        <p:grpSpPr>
          <a:xfrm>
            <a:off x="5219640" y="5084640"/>
            <a:ext cx="3529080" cy="1687680"/>
            <a:chOff x="5219640" y="5084640"/>
            <a:chExt cx="3529080" cy="1687680"/>
          </a:xfrm>
        </p:grpSpPr>
        <p:grpSp>
          <p:nvGrpSpPr>
            <p:cNvPr id="145" name="AutoShape 23"/>
            <p:cNvGrpSpPr/>
            <p:nvPr/>
          </p:nvGrpSpPr>
          <p:grpSpPr>
            <a:xfrm>
              <a:off x="5219640" y="5724360"/>
              <a:ext cx="3529080" cy="378000"/>
              <a:chOff x="5219640" y="5724360"/>
              <a:chExt cx="3529080" cy="378000"/>
            </a:xfrm>
          </p:grpSpPr>
          <p:pic>
            <p:nvPicPr>
              <p:cNvPr id="146" name="AutoShape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19640" y="5724360"/>
                <a:ext cx="352908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5905080" y="5801400"/>
                <a:ext cx="2160720" cy="22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Line 27"/>
            <p:cNvSpPr/>
            <p:nvPr/>
          </p:nvSpPr>
          <p:spPr>
            <a:xfrm>
              <a:off x="7020720" y="5300640"/>
              <a:ext cx="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8"/>
            <p:cNvSpPr/>
            <p:nvPr/>
          </p:nvSpPr>
          <p:spPr>
            <a:xfrm flipV="1">
              <a:off x="7020720" y="609264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29"/>
            <p:cNvSpPr/>
            <p:nvPr/>
          </p:nvSpPr>
          <p:spPr>
            <a:xfrm>
              <a:off x="7020720" y="5877000"/>
              <a:ext cx="0" cy="288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34"/>
            <p:cNvSpPr/>
            <p:nvPr/>
          </p:nvSpPr>
          <p:spPr>
            <a:xfrm>
              <a:off x="6908400" y="5084640"/>
              <a:ext cx="211320" cy="216000"/>
            </a:xfrm>
            <a:prstGeom prst="ellipse">
              <a:avLst/>
            </a:prstGeom>
            <a:solidFill>
              <a:srgbClr val="ff0000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35"/>
            <p:cNvSpPr/>
            <p:nvPr/>
          </p:nvSpPr>
          <p:spPr>
            <a:xfrm>
              <a:off x="6908400" y="6556320"/>
              <a:ext cx="211320" cy="216000"/>
            </a:xfrm>
            <a:prstGeom prst="ellipse">
              <a:avLst/>
            </a:prstGeom>
            <a:solidFill>
              <a:srgbClr val="ff0000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Group 38"/>
          <p:cNvGrpSpPr/>
          <p:nvPr/>
        </p:nvGrpSpPr>
        <p:grpSpPr>
          <a:xfrm>
            <a:off x="4932360" y="1916280"/>
            <a:ext cx="3095640" cy="1152360"/>
            <a:chOff x="4932360" y="1916280"/>
            <a:chExt cx="3095640" cy="1152360"/>
          </a:xfrm>
        </p:grpSpPr>
        <p:sp>
          <p:nvSpPr>
            <p:cNvPr id="154" name="Line 14"/>
            <p:cNvSpPr/>
            <p:nvPr/>
          </p:nvSpPr>
          <p:spPr>
            <a:xfrm flipV="1">
              <a:off x="5148360" y="2060280"/>
              <a:ext cx="266364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932360" y="2852640"/>
              <a:ext cx="216000" cy="216000"/>
            </a:xfrm>
            <a:prstGeom prst="ellipse">
              <a:avLst/>
            </a:prstGeom>
            <a:solidFill>
              <a:srgbClr val="ff0000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7812000" y="1916280"/>
              <a:ext cx="216000" cy="215640"/>
            </a:xfrm>
            <a:prstGeom prst="ellipse">
              <a:avLst/>
            </a:prstGeom>
            <a:solidFill>
              <a:srgbClr val="ff0000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36"/>
            <p:cNvSpPr/>
            <p:nvPr/>
          </p:nvSpPr>
          <p:spPr>
            <a:xfrm>
              <a:off x="6400800" y="2392200"/>
              <a:ext cx="216000" cy="216000"/>
            </a:xfrm>
            <a:prstGeom prst="ellipse">
              <a:avLst/>
            </a:prstGeom>
            <a:solidFill>
              <a:srgbClr val="ffffff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6:12:42Z</dcterms:created>
  <dc:creator>P@VL!K</dc:creator>
  <dc:description/>
  <cp:keywords/>
  <dc:language>en-US</dc:language>
  <cp:lastModifiedBy>Ульянка</cp:lastModifiedBy>
  <dcterms:modified xsi:type="dcterms:W3CDTF">2010-05-17T16:12:42Z</dcterms:modified>
  <cp:revision>70</cp:revision>
  <dc:subject/>
  <dc:title>Этот удивительный мир симметр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